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click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85480" y="706320"/>
            <a:ext cx="4707000" cy="353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75A8279-AF8D-439B-96D8-A6C872453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A990465-CB64-4C52-9D26-EFE5830DA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27245FB-7EC5-4ACF-8CAE-3C00313C1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2598464-4EE6-4194-81BD-DDECDCC2E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505A784-D962-4017-BFA7-593167DE9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A6A-BDC3-4722-8E73-4A08505B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3F2-8FA3-4310-9588-A30EC50B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C09-626A-4D26-891E-E18F85AB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DD7-2887-4923-B9E5-F1145BC1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4DCD-3129-4BCD-B437-6496A0A1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1EF4-6F4F-495D-BCCF-8F7F11B5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71B7-EDE4-45DE-8AAF-95D454B0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CF31-EEEF-4E5E-8562-123788AF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72FD-FBEC-4341-AE06-A39C3671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227C-0718-4EFB-8D84-7E50963A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9D35-A7D6-4091-87A5-A83944CC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81D-D6EF-4071-83BE-B425A3EF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18BB-D0F7-424E-90B4-7DABCEF7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BC60-B75D-416A-956F-C8A11F31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1014-70BE-48C5-AE12-A99441C9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471F-1937-448A-8DE6-D0C8A3A6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0804-8116-45BE-B9C9-9D402121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3FF42-6413-412C-8215-1546201C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C880-FA00-4E74-A04B-57B7FFA1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D5808-CA29-4E39-9D8E-8273CDD8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D1517-B06B-47F6-A9FF-343CF860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A011-E28A-4137-8E38-70534E1A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4EB-E870-4270-B970-35FC83E7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A1942-3839-4ED9-9B1E-AF4C8BFD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845C5-7DF9-45BA-B3C9-DCC8EE25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52C0-5DD3-4E56-AFCA-E9635C79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1CAB3-5ED9-420E-8576-A1798AA9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E3D74-66F3-4103-B5AD-1AA4350F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D7C8-68B7-47EC-B503-6494CC10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0137F-0835-4B9D-A97A-73FABDA3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C8710-9BED-46B1-9356-70880FFB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CCCBC-95D6-47E7-B854-98D03FCB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2114A-9FA0-4456-A840-78203DF1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912-9900-4A68-B00A-C622BDC3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75695-8B19-439D-8156-B9FC8817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C8A1D-0203-4CC1-B114-79D0DF4B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BEFE7-2D90-4A42-A675-4869EBF0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18589-3AB6-4A0D-8313-3DE65B3F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66922-330B-4CDB-8F92-60EAB69D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5973F-82DA-46BA-B1E0-675EE4FC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37D85-D55E-4EED-AA33-8DEEA58A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4A86E-77AA-4F0C-ADFE-F934DA73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8EB06-FCEA-457B-B929-2B3AB152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5F7BB-0B98-4E3D-9D50-C8D4B5B8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1BE-7F49-4A72-A324-8FF70D3D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F67A0-C0E8-4BF4-95C2-49A0FC45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4C35B-0026-4B00-8945-68A7518D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D461-160C-4BF0-8A59-3C12DE6F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96303-AFD5-45BE-870D-823F3F88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4CA4B-6F69-4C82-924E-43EACABA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AACE1-7852-4E98-A431-B96F07A5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D9D5A-E576-4EE9-9AF5-062BC310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4494E-DA74-4CC8-B622-4D5E6098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89FFC-A598-4D6D-B294-292B9015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B6E6F-C86F-4AB9-BA1D-12FAED8A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19A-5990-4E7E-8EB6-7E31BC53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43264-9A5B-4C8E-A811-A10C9507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64C7E-C86C-43E9-A97F-2CC9F0CD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2BBE3-477A-4911-81B3-603AD3C4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C8EE2-11C9-48B7-8DA6-446708C9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6D84D-B7E1-4B33-8B43-313734FB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50FC1-EBE3-4235-BE24-2B39C03A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19695-2381-49EE-BFA4-1E353E52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C175A-0C13-4B67-A5FA-F030AA33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C4EB3-8E6B-47DC-8ECB-FE59C4D9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A207E-3930-4152-84E3-BC70C702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7F9-7DA8-4893-B9E3-C2E560C0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0D07F-DCFF-4719-8461-8D0B7487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B8C03-A0C7-448C-A8D4-F31377DC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0DDBD-EA08-4C67-8958-36D0512D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46F9C-4758-4AB9-9A80-9CC191F7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53877-2F67-4062-8FF8-65C1A674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1FE32-1CF4-452C-AAA4-9723BE93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79103-796C-4796-BD1C-D850AB65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6FEE8-E300-40F4-8A4C-FBC1A07C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EA7F1-5AF3-41BC-A4E9-7F1429E4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C3987-9D59-4686-BFB2-F6807B02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78B-2C46-4D9A-9B00-DED90CFC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C766D-4010-42EA-8AD6-D7F928AA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982EE-1B95-4705-83BE-1F0A6D56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CAC2B-E034-4E9A-8D19-87C89A6F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5F8C6-541E-4D14-B56E-24E31274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32DF9-CEB0-44F3-810C-F863402E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D6810-465E-4AC0-9848-F299EDFF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6B3C6-DDB7-4FF9-BDD3-9A700B23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BDD82-E606-41E9-9651-5F24A9F1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F3409-3FDB-4D81-890B-F3CD3EAD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E0935-A3DA-4E10-AFCA-B03DF355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22DD-473B-4D83-BFCF-9B88319F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711C7-27EA-46A3-9341-0DB371FE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84074-D5F8-4EBE-BD10-67BB24CC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4A2DD-E354-440D-AC63-7A5ACCDC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71853-8526-4E98-83FB-7FAF28C5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2E07C-F707-428E-87E6-CDC000A7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7A66F-9020-4A81-BA76-6E548F9D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BD0D9-F164-4C38-8A73-D7EA0DCD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874D-6493-4DE5-A113-36B9B9B88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F8EF-099F-48E4-81C0-1D3D2CAE293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B98B-37B2-41ED-BF78-C532417462F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40D8-DCB6-4802-9AA9-7BEB331E940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3173-87E1-47E4-9410-58D908EDFBE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CFA5-E09D-499B-8F5E-8267508251F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5F91-49D2-4F22-96AA-595C4B9CF53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9E1A-7204-4F31-8A6E-6E065BDDA5E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740700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ent, Centi, Centu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400" y="160020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hundred; a hundredth par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enaria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ennial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e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year or year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rcentage 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Gill Sans MT"/>
              </a:rPr>
              <a:t>per= 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 throughout;  one out of every)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igra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igra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ili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im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uple 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Gill Sans MT"/>
              </a:rPr>
              <a:t>ple= 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 thickness; to fold)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icentenni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6" descr="centenarian.jpg"/>
          <p:cNvPicPr/>
          <p:nvPr/>
        </p:nvPicPr>
        <p:blipFill>
          <a:blip r:embed="rId2"/>
          <a:stretch/>
        </p:blipFill>
        <p:spPr>
          <a:xfrm>
            <a:off x="1905120" y="4419720"/>
            <a:ext cx="2232000" cy="19684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centiliter.jpg"/>
          <p:cNvPicPr/>
          <p:nvPr/>
        </p:nvPicPr>
        <p:blipFill>
          <a:blip r:embed="rId3"/>
          <a:stretch/>
        </p:blipFill>
        <p:spPr>
          <a:xfrm>
            <a:off x="3429000" y="2590920"/>
            <a:ext cx="1486080" cy="1371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centimeter.jpg"/>
          <p:cNvPicPr/>
          <p:nvPr/>
        </p:nvPicPr>
        <p:blipFill>
          <a:blip r:embed="rId4"/>
          <a:stretch/>
        </p:blipFill>
        <p:spPr>
          <a:xfrm>
            <a:off x="7238880" y="4038480"/>
            <a:ext cx="1295640" cy="1238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cents.jpg"/>
          <p:cNvPicPr/>
          <p:nvPr/>
        </p:nvPicPr>
        <p:blipFill>
          <a:blip r:embed="rId5"/>
          <a:stretch/>
        </p:blipFill>
        <p:spPr>
          <a:xfrm>
            <a:off x="7162920" y="152280"/>
            <a:ext cx="1780920" cy="1524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percentage.jpg"/>
          <p:cNvPicPr/>
          <p:nvPr/>
        </p:nvPicPr>
        <p:blipFill>
          <a:blip r:embed="rId6"/>
          <a:stretch/>
        </p:blipFill>
        <p:spPr>
          <a:xfrm>
            <a:off x="1447920" y="2666880"/>
            <a:ext cx="1371600" cy="1295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7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ron, Chron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ron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ynchronize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syn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t the same time; together; like)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ze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o subject to; to mak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ronologic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ron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ronolo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achronis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9" name="Picture 6" descr="synchronize.jpg"/>
          <p:cNvPicPr/>
          <p:nvPr/>
        </p:nvPicPr>
        <p:blipFill>
          <a:blip r:embed="rId2"/>
          <a:stretch/>
        </p:blipFill>
        <p:spPr>
          <a:xfrm>
            <a:off x="1066680" y="2743200"/>
            <a:ext cx="2133720" cy="1752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synnch.jpg"/>
          <p:cNvPicPr/>
          <p:nvPr/>
        </p:nvPicPr>
        <p:blipFill>
          <a:blip r:embed="rId3"/>
          <a:stretch/>
        </p:blipFill>
        <p:spPr>
          <a:xfrm>
            <a:off x="3429000" y="5105520"/>
            <a:ext cx="1819440" cy="1447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chornomter.jpg"/>
          <p:cNvPicPr/>
          <p:nvPr/>
        </p:nvPicPr>
        <p:blipFill>
          <a:blip r:embed="rId4"/>
          <a:stretch/>
        </p:blipFill>
        <p:spPr>
          <a:xfrm>
            <a:off x="7172280" y="152280"/>
            <a:ext cx="197172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-, Col-, Com-, Con-, Cor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ith; together; joint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oper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llabor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mo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cu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rro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lle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spi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du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stell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6" descr="conduct.jpg"/>
          <p:cNvPicPr/>
          <p:nvPr/>
        </p:nvPicPr>
        <p:blipFill>
          <a:blip r:embed="rId2"/>
          <a:stretch/>
        </p:blipFill>
        <p:spPr>
          <a:xfrm>
            <a:off x="3581280" y="3352680"/>
            <a:ext cx="1524240" cy="1447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collaborate.jpg"/>
          <p:cNvPicPr/>
          <p:nvPr/>
        </p:nvPicPr>
        <p:blipFill>
          <a:blip r:embed="rId3"/>
          <a:stretch/>
        </p:blipFill>
        <p:spPr>
          <a:xfrm>
            <a:off x="7315200" y="2133720"/>
            <a:ext cx="1295280" cy="1162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onstellation.jpg"/>
          <p:cNvPicPr/>
          <p:nvPr/>
        </p:nvPicPr>
        <p:blipFill>
          <a:blip r:embed="rId4"/>
          <a:stretch/>
        </p:blipFill>
        <p:spPr>
          <a:xfrm>
            <a:off x="1600200" y="4876920"/>
            <a:ext cx="1676520" cy="1657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ooperate.jpg"/>
          <p:cNvPicPr/>
          <p:nvPr/>
        </p:nvPicPr>
        <p:blipFill>
          <a:blip r:embed="rId5"/>
          <a:stretch/>
        </p:blipFill>
        <p:spPr>
          <a:xfrm>
            <a:off x="7391520" y="48769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cooperatee.jpg"/>
          <p:cNvPicPr/>
          <p:nvPr/>
        </p:nvPicPr>
        <p:blipFill>
          <a:blip r:embed="rId6"/>
          <a:stretch/>
        </p:blipFill>
        <p:spPr>
          <a:xfrm>
            <a:off x="1523880" y="2666880"/>
            <a:ext cx="1981440" cy="1371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7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1-26T18:09:57Z</dcterms:modified>
  <cp:revision>23</cp:revision>
  <dc:subject/>
  <dc:title>Roots List #1</dc:title>
</cp:coreProperties>
</file>